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0BF21-4C49-4043-872B-9BEDAB8CE7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er 160 feet t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t in 117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3 feet t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6429B-1DC4-41BD-8C15-A8F324583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2035C-0A0C-447A-BFA7-18A793200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919D5-E371-4FF7-830C-953221879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958AC-BA54-4C05-B032-D253EC7C3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C453D-CC44-4821-8B2B-B7F26A83B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5591C-EF0D-470F-AEE0-476C36B8A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A047F-B4C6-45D7-A5A1-9510E9212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3EFF1-787D-4A6B-A7A9-461C71B2A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CC84D-E356-44B4-A4F6-0E8F3E3ED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99D61-6EA4-4FDF-B2CF-55C2E54F1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81DD1-62B5-4024-A3F1-5BCCCB550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79C4B-C531-49FC-8589-0CBBBD497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76226-D216-4438-800B-0B96E97D53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Tahoma Small Cap"/>
              </a:rPr>
              <a:t>Engineer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urj Dubai in United Arab Emir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2008-10-26_burjdubai" descr=""/>
          <p:cNvPicPr/>
          <p:nvPr/>
        </p:nvPicPr>
        <p:blipFill>
          <a:blip r:embed="rId1"/>
          <a:stretch/>
        </p:blipFill>
        <p:spPr>
          <a:xfrm>
            <a:off x="762120" y="990720"/>
            <a:ext cx="1579320" cy="5943600"/>
          </a:xfrm>
          <a:prstGeom prst="rect">
            <a:avLst/>
          </a:prstGeom>
          <a:ln w="0">
            <a:noFill/>
          </a:ln>
        </p:spPr>
      </p:pic>
      <p:pic>
        <p:nvPicPr>
          <p:cNvPr id="74" name="BurjDubaiHeight" descr=""/>
          <p:cNvPicPr/>
          <p:nvPr/>
        </p:nvPicPr>
        <p:blipFill>
          <a:blip r:embed="rId2"/>
          <a:stretch/>
        </p:blipFill>
        <p:spPr>
          <a:xfrm>
            <a:off x="3429000" y="1905120"/>
            <a:ext cx="4361040" cy="3109680"/>
          </a:xfrm>
          <a:prstGeom prst="rect">
            <a:avLst/>
          </a:prstGeom>
          <a:ln w="0">
            <a:noFill/>
          </a:ln>
        </p:spPr>
      </p:pic>
      <p:pic>
        <p:nvPicPr>
          <p:cNvPr id="75" name="LocationUnitedArabEmirates" descr=""/>
          <p:cNvPicPr/>
          <p:nvPr/>
        </p:nvPicPr>
        <p:blipFill>
          <a:blip r:embed="rId3"/>
          <a:stretch/>
        </p:blipFill>
        <p:spPr>
          <a:xfrm>
            <a:off x="5486400" y="5257800"/>
            <a:ext cx="2857680" cy="13143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2514600" y="5257800"/>
            <a:ext cx="2743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,684 feet tall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ngineers are Scientis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lids have different proper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228600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8000"/>
          </a:bodyPr>
          <a:p>
            <a:pPr marL="233280" indent="-233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gineers use what they know about the properties of solids to build useful th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609480" y="3505320"/>
            <a:ext cx="4267440" cy="28414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4800600" y="3505320"/>
            <a:ext cx="3809880" cy="284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Tahoma Small Cap"/>
              </a:rPr>
              <a:t>Tower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evil’s Tower in Wyom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752480" y="1494000"/>
            <a:ext cx="5943600" cy="47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iffel Tower in Paris, Fr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28720" y="1486080"/>
            <a:ext cx="3666960" cy="51433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610160" y="1476360"/>
            <a:ext cx="3695760" cy="51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ycksele Tower in Swed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813040" y="1295280"/>
            <a:ext cx="366408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eaning Tower of Pisa, Ita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666880" y="1600200"/>
            <a:ext cx="3686400" cy="491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N Tower in Toronto, Cana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16080" y="1447920"/>
            <a:ext cx="345132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ears Tower in Chicag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2666880" y="1433520"/>
            <a:ext cx="4159440" cy="53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4T18:42:52Z</dcterms:created>
  <dc:creator> </dc:creator>
  <dc:description/>
  <dc:language>en-US</dc:language>
  <cp:lastModifiedBy>Charlie Swor</cp:lastModifiedBy>
  <dcterms:modified xsi:type="dcterms:W3CDTF">2009-02-05T00:27:40Z</dcterms:modified>
  <cp:revision>5</cp:revision>
  <dc:subject/>
  <dc:title>Towers</dc:title>
</cp:coreProperties>
</file>